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dt" idx="26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733AB-E838-4493-858D-A3BDD218BC1D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B3E30-D19E-4197-B463-BBB9782CD538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0" name=""/>
          <p:cNvSpPr/>
          <p:nvPr/>
        </p:nvSpPr>
        <p:spPr>
          <a:xfrm>
            <a:off x="75564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D4495-CDDC-4F7A-A8E8-7F76D52750D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"/>
          <p:cNvSpPr/>
          <p:nvPr/>
        </p:nvSpPr>
        <p:spPr>
          <a:xfrm>
            <a:off x="685800" y="4341960"/>
            <a:ext cx="54878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C6047-FADA-477E-B728-BC21AF84F01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"/>
          <p:cNvSpPr/>
          <p:nvPr/>
        </p:nvSpPr>
        <p:spPr>
          <a:xfrm>
            <a:off x="685800" y="4341960"/>
            <a:ext cx="54878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1CB6A-E3FC-4678-B9AF-96F7BF09D29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"/>
          <p:cNvSpPr/>
          <p:nvPr/>
        </p:nvSpPr>
        <p:spPr>
          <a:xfrm>
            <a:off x="685800" y="4341960"/>
            <a:ext cx="54878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B2326-9F7B-410A-92A6-CC6FB35B97F5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CEFDF-3FE9-4841-BF95-DE0F3949F0D0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D4FB1-8174-4850-BE14-AA4A4C18F076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430D0-06AB-4A61-A280-7FA2C3908C5D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B72B7-C4B9-4B25-B09B-A92B4290556B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702AB-5BB0-41C4-9709-BCC93BB40D78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61123-D701-415A-AAEE-6E081EC32D66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69227-1E84-49D1-B9C2-A44EA39EA0DC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59722-E166-457A-9F95-31641C3D3C60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F273E-08D3-4BE1-A81A-548FBB9D2B13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BF161-B66E-4917-BCEC-3C74FEC2EE9F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E602D-20BA-4FEB-A26B-B899FB727A0C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AEF64-DD9E-4717-AC84-D1134D51609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"/>
          <p:cNvSpPr/>
          <p:nvPr/>
        </p:nvSpPr>
        <p:spPr>
          <a:xfrm>
            <a:off x="685800" y="4341960"/>
            <a:ext cx="54878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FA37E-C88C-41AB-B32C-5A49AF90B4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D049-BC2B-4DB3-A7F8-4F5C882F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24737-EDA5-4EEE-8D90-8B770C84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2FF84-C672-4A8B-91B5-D97A0B85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9A9BB-B2AE-4BDE-89BA-41D6AFE8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1E502-A0DF-40B9-9B97-472FE57F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171CD-4EED-4253-ADBE-C129DBCF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0315F-CAD3-4D74-B909-841673F8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2DAF5-3694-4C44-B77B-D2A15CED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63894-3951-4AB2-8AE6-1F117EBE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B7AA7-A840-4183-A06B-8A9F6B2CC9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473B89-4EBA-4C43-9037-63459495A8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AA839-FCBC-4F3A-BADD-1A0074BE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3F94A6-6558-42DD-9037-2E64CABC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2E82AA-11CC-4F18-92FD-35737CA1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2945B2-202F-4BFD-AC7C-019B2E4B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7B8A0E-3A62-4E1A-A5C5-515466C8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F92554-7386-4E26-BE7C-D7A1F69B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ADFDAE-71EA-44ED-A459-F069BB6F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F8F636-4535-4595-8B46-0B454440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0505A1-B82B-4FEF-A46C-2AB1452F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8D9365-B26B-4308-B638-674B49CD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68533-5EE9-475C-A77C-777BB4B3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2B7DA-715A-4C9E-B036-EE309ED614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D9EFBD-C9D1-4D62-B9BC-771D78EF3E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70A793-2C89-4870-BA67-14656CF8F1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2D5309-AE46-4265-9172-87A92CCF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CDE141-1D3F-4F0B-8EFD-D2BA7C05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4B60AE-BEEC-4446-A442-94B2B079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BCBAA8-867E-4056-8106-A3AEE0BA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D03EB3-6668-41BF-ACAA-92A37EC8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954CA1-869E-4DF5-8085-07B07AA0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D56F30-5CE0-4BE2-BB92-50571A94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A388D4-2EA9-440B-9336-E8BA0C8F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7F333-9EDD-4F72-BA7B-D165EEE8E0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C471B3-94AE-4ADD-A8CE-0F462F34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DA7E4D-E4E3-4B0E-AE09-03452C03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B27836-C7D7-4569-98FD-F7B0B1CF97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44E03-DE2A-42BA-9753-6AE9C506A1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A2FA3-E856-4257-9D0E-2595C040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4AC65-8A3B-46E5-B0A0-2A84DEA9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447C8-9B1A-499B-A27F-72478D67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917DF-A559-47BA-8533-8856839F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8ADCE-98F1-4EF9-9A91-CCBF7D1F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6A2D7-D905-4A2D-B64D-72B9228B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D88CA-8CBF-416A-BB0D-0D318EA2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E7F52-8842-4C6C-BA89-C76C559A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905BB-7EFB-42F2-B42F-61511874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483C1-6E40-418F-8FA6-85D2733C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51CC5-FCF3-412E-9D68-1EE0B159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89F12-C780-46EC-9265-DEB96B0953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FAF4BB-F23F-429B-89D1-932A6685622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53EFB-2E74-4B7E-8B9F-A3D46C00A58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5FD61-B836-4334-9A7B-BE752AD27F8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CB335-4141-4052-BAF8-F226304589E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0092E-EB22-47B1-8B61-59F2A541F6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8907C-9757-4233-AA52-2471F034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03A11-3DAC-4F29-9919-F6212153EA1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ADDBE-4E8E-4DA7-9CA5-B74F08D13DC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08343-5F84-4D1F-8189-0690565667C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0A2C9-B523-4970-8062-C71552B1E71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49A00-FE20-4522-BEAE-4688F2BDA35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05E60-9308-426E-B9A8-00D8F544333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65D4B-577E-4911-A007-E66861079E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0F3DC-E3E9-42AC-B043-3569BF58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14048-1F32-4324-AA20-49A29EE1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74235-4604-4583-AE30-393379C8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BBFC0-8E07-42CE-83AF-A6A23E84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ABEFF-1152-410B-81CF-4C06F15F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770C9-A3BE-4C87-9E0B-364EED11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BA130-4BBA-4F9C-8165-66ABE506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6E88A-C390-4EA9-B781-186D8EF9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AAD14-8900-458A-BE27-49371C00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69FD4-501D-411B-B4D4-4100D7297A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7D97-E61D-40E1-A2DC-59EAF230FA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CD84-0EF9-46A9-84E4-F716D65D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3636-799E-4CA1-8DE0-4C6A68A5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ABA0-F7D6-4C9A-B502-2D2B7C50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0A59-D079-4D13-9775-E0C7917C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6F369-C0F3-4362-9C0A-F9DA62AF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FBFA-EA10-4C6B-A027-E0BD5312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758E-4862-4A3C-9D42-D6B02EA3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67CB-B377-4E20-B18C-DB8A11D0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36A0-8C1E-4C09-982F-F47E28E4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7FD4-6C3A-4B7D-81B8-9074B60B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8D7A-74C3-475F-A279-58B3F264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69F2-7168-44BE-96C4-8D6CD32C1E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2B472-D900-420B-B64C-8012561730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D7369-7BCC-4D72-B202-99A96B50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069EA-D901-46C7-9D60-722122FC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C949-DC9D-45E5-A257-8C0D0013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2DECB-4EA1-444A-9E97-48C9F117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C4EA7-D879-43D8-8A0D-A10CC388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5FADB-3A2A-449C-9D8C-7FF46D0D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19C1E-E302-4399-87EB-80F679BD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14A48-0099-4F9E-BC5E-6F8FB778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D1290-435F-4B4A-A36C-FC0111D7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488AA-CCF9-45E3-94B3-47C95B1E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0749E-AC49-4F08-B39B-4B087AC0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EF5D8-4E1A-4A51-9D8C-B20935A0B1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B2A72-274C-40E4-9D3B-AE88AD9FF1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C4E1A-39E1-46E4-B8CF-92FDE130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19CB04-C7BD-4EE4-89AD-5AC0A3C8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88F02B-5603-42A8-B8C4-A0519F97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3506FA-5293-4B5D-85AD-DECCC94F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1F784B-BE17-4344-B836-4A6C318F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40244C-2093-4DC3-B092-29E2C776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46D901-CAC4-4A4B-9147-BB28108E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4E1ADA-707C-4E7E-AB3F-F819393B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3F2B1F-168E-4483-9F58-6A048E07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6B7D49-C312-4B33-8BE8-CA1227B1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2D6A9F-08EC-4ACC-89FD-D8F78696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1F65B-6D93-4E87-A661-133C24C7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257338-7A01-4A92-A5E6-E84F39CB8E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5A44B-E72F-4223-80C5-DF103FAC74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CBD05-4144-4ACD-9F1E-75E5C029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C8AC0-62B8-42C7-A44B-4BF75421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9D425-5548-4B4E-9A17-5F739C91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D1A7A-BCAF-48D1-9DA9-9369CAF4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52412-51B5-4843-AF83-44E85A59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F6766-5D46-4B87-A745-0C08FE36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6FAA7-A262-4E85-877C-13588AE2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A7106-EF70-415D-8C17-1AD6563A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42A5-1199-4E1B-A4CE-6B6FD0FF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92279-9F87-43E5-8ADB-8FA0E136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CDCF0-4E77-4CDA-A8D9-06EB2FCA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2A49E-E400-40A2-8FB3-40EA05C936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F1B757-B87D-4AC9-B3B9-660E505A67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8FAFE-D8AB-4389-8710-F4622AE9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478E4D-552D-4DFB-BB02-D006A27F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74DD9E-5CE0-4BCA-A226-76E199DC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BD88D4-31E3-4EBF-B11D-7183A938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93576-030A-4F49-941B-4F9FC232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6E740-9C69-4B46-BF8D-61CB39E0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373D-364D-4457-B7FE-4763A791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1C82D-0BEE-4214-B16F-2BF927A0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586849-8CE7-40ED-B1A5-5825A383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EE003-909C-4F5D-BA10-4D86406D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628380-B076-45C7-81C2-FA09B02E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49153-9C99-4C2C-951E-15C37045F3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F31AE1-861F-4E0A-B81D-65474323B1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302D4F-1244-430C-BA70-FFC8872F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9CE591-2B7F-4216-9EA7-075546AD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6EAD8E-C86A-427F-A9FB-74112917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86974D-720D-43E7-831D-FC945BAD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2592-02F3-480B-9A39-0937179D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A4B2CD-5C51-4A2B-ACF9-DEF007B9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17A8A8-509A-4E2F-8376-4301ABE6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B799E6-AECB-45CC-857C-38BFDA9B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D21DFB-02F8-4ABA-A746-3734F20A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B5B239-FFB4-4B10-A14F-BFD56FE0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AB9A61-1346-440D-B610-A0E36B63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25F444-24B9-4810-93B9-87726BC62C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D2205-7B7B-40BC-B39D-9723E6A84B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DB8EF-72D7-4E8A-94D2-512B227B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50219-5A30-436F-A7E4-83289FE6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14.03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F86D0-BA4A-47CD-AFEF-A23C6776A554}" type="slidenum"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92440" y="4026960"/>
            <a:ext cx="548136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440" y="61272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792440" y="5366880"/>
            <a:ext cx="5481360" cy="83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7C9CB-CBC1-4948-A75B-1501E2EEB74B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367C6-3162-4AA7-A496-E131B9F81827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629400" y="274320"/>
            <a:ext cx="205272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274320"/>
            <a:ext cx="601488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sldNum" idx="2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97F01-1380-47B0-ABA0-3C963468199E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6720"/>
            <a:ext cx="82249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12732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Num" idx="25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230E9-5290-4C19-A8FD-2E30C513CC0D}" type="slidenum">
              <a:rPr b="0" lang="et-E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77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240" y="3885840"/>
            <a:ext cx="639612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733E6-0D5F-4BBF-997C-ED630E7A0C03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431BD-B23A-41D5-85EA-BFB86B354433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1800" y="4406400"/>
            <a:ext cx="776772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21800" y="-1211760"/>
            <a:ext cx="776772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A10FE-70D9-4A76-9BC1-D4BA29B30CA3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8D3DF-E735-46B4-B531-2DCC1BD6BCE5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-10242720"/>
            <a:ext cx="4035600" cy="124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2D3C9-13D6-415D-9873-130B9E588B60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52825-E65C-4624-98A8-D030917ACA3B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dt" idx="1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Num" idx="1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20210-1E86-4EB7-AD94-D2B45E87439F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-1150920"/>
            <a:ext cx="300348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1434960"/>
            <a:ext cx="3003480" cy="319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1D6CB-2C9A-4795-93E5-DCFB9F8ECDBB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720720" y="900000"/>
            <a:ext cx="77644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Html annotation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39920" y="49068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anel Tamm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828720" y="830160"/>
            <a:ext cx="7672320" cy="75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Näide 2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Algse html tek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a class="tootaja_nimi"       href="http://www.mkm.ee/index.php?id=7187&amp;amp;tootaja=10000450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Taivo Kivistik&lt;/a&gt;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div class="tootaja_inf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asekantsler (õigusal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br&gt;Tel:  6256346 | E-pos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a class="kontakt_mail" href="javascript:void(0)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onclick="sendmail('taivo.kivistik', 'mkm.ee')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taivo.kivist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img src="majandus_juhtkond_files/e_post.gif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class="e_post_gif" border="0"&gt;mkm.ee&lt;/a&gt; &lt;br&gt;&lt;/div&gt;&lt;b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828720" y="830160"/>
            <a:ext cx="7672320" cy="75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Näide 2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asemel kasutatakse RDFa järgi annoteeritud htm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span about="#Taivo_Kivistik"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a class="tootaja_nimi"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rel="er:koduleht"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 href="http://www.mkm.ee/index.php?id=7187&amp;amp;tootaja=10000450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span property="er:nimi"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Taivo Kivistik&lt;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/span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/a&gt;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div class="tootaja_inf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span property="er:amet"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asekantsler (õigusala)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br&gt;Tel: 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span property="er:telefon"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6256346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/span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| E-pos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a class="kontakt_mail" href="javascript:void(0)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onclick="sendmail('taivo.kivistik', 'mkm.ee')"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property="er:email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content="taivo.kivistik@mkm.ee"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taivo.kivist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img src="majandus_juhtkond_files/e_post.gif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class="e_post_gif" border="0"&gt;mkm.ee&lt;/a&gt; &lt;br&gt;&lt;/div&gt;&lt;b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828720" y="830160"/>
            <a:ext cx="7672320" cy="67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RDFa konkreetsemal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  <a:ea typeface="Tahoma"/>
              </a:rPr>
              <a:t>Üldiselt peaks piisam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nei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  <a:ea typeface="Tahoma"/>
              </a:rPr>
              <a:t>st lihtsama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 RDFa võimalus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  <a:ea typeface="Tahoma"/>
              </a:rPr>
              <a:t>te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objekti id määramiseks:   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ab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#kohalik_i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lingi omaduse nime jaoks: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r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er:omad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üldiselt omaduse nime jaoks: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proper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er:omad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kui vaja (enamasti ei), tüüp: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xsd:tyybinimi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omaduse väärtus:                        tüüpiliselt htmls ole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omaduse väärtus alternatiivselt: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cont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väärt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Facebook &amp; RDFa: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Open Graph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s://developers.facebook.com/docs/opengraphprotocol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Sightsmap" property="og:title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http://www.sightsmap.com" property="og:url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Sightsmap" property="og:site_name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website" property="og:type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Sightseeing popularity heatmaps for the whole world, based on Panoramio photos, Wikipedia and FourSquare." property="og:description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http://www.sightsmap.com/wpng/siteimage_small_150.jpg" property="og:image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tanel.tammet" property="fb:admins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330325837036787" property="fb:app_id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Google &amp; RDFa: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ich snipp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http://support.google.com/webmasters/bin/topic.py?hl=en&amp;topic=1088472&amp;parent=21997&amp;ctx=top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Use eith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RDF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icro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icroform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Micro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body itemtype="http://schema.org/WebPage" itemscope="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Or a longer exampl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iv itemscope itemtype="http://data-vocabulary.org/Person"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name is &lt;span itemprop="name"&gt;Bob Smith&lt;/span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people call me &lt;span itemprop="nickname"&gt;Smithy&lt;/span&gt;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is my home pa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a href="http://www.example.com" itemprop="url"&gt;www.example.com&lt;/a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live in Albuquerque, NM and work as an &lt;span itemprop="title"&gt;engineer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&lt;span itemprop="affiliation"&gt;ACME Corp&lt;/span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Compare RDFa &amp; microda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RDF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iv xmlns:v="http://rdf.data-vocabulary.org/#" typeof="v:Person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name is &lt;span property="v:name"&gt;Bob Smith&lt;/span&gt;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people call me &lt;span property="v:nickname"&gt;Smithy&lt;/span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is my homepag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a href="http://www.example.com" rel="v:url"&gt;www.example.com&lt;/a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live in Albuquerque, NM and work as an &lt;span property="v:title"&gt;engineer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&lt;span property="v:affiliation"&gt;ACME Corp&lt;/span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Microdat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iv itemscope itemtype="http://data-vocabulary.org/Person"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name is &lt;span itemprop="name"&gt;Bob Smith&lt;/span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people call me &lt;span itemprop="nickname"&gt;Smithy&lt;/span&gt;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is my home pa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a href="http://www.example.com" itemprop="url"&gt;www.example.com&lt;/a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live in Albuquerque, NM and work as an &lt;span itemprop="title"&gt;engineer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&lt;span itemprop="affiliation"&gt;ACME Corp&lt;/span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Microform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Google example: data encoded in 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class=„...“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attributes, here concretely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 vcard format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div class="vcard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img class="photo" src="www.example.com/bobsmith.jpg" 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trong class="fn"&gt;Bob Smith&lt;/strong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title"&gt;Senior editor&lt;/span&gt; at &lt;span class="org"&gt;ACME Reviews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adr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street-address"&gt;200 Main St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locality"&gt;Desertville&lt;/span&gt;, &lt;span class="region"&gt;AZ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postal-code"&gt;12345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/div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chema.or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reated by: Google, Microsoft, and Yaho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oal: create a shared </a:t>
            </a: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markup vocabula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orted by major search engi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e also: http://www.sitemaps.org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mpare to: wordnet (a very different anima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e additionally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://googlewebmastercentral.blogspot.com/2012/12/introducing-data-highlighter-for-event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://googlewebmastercentral.blogspot.com/2012/07/introducing-structured-data-dashboard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ecture 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Html annot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SimSun"/>
              </a:rPr>
              <a:t>RDF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SimSun"/>
              </a:rPr>
              <a:t>Micro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SimSun"/>
              </a:rPr>
              <a:t>Facebook &amp; Goo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Schem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emantic“ html: two mean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First meaning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A semantic element clearly describes its meaning to both the browser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and the develop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Example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non-semant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 elements: &lt;div&gt; and &lt;span&gt; - Tells nothing about its cont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Example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semant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 elements: &lt;form&gt;, &lt;table&gt;, and &lt;img&gt; - Clearly defines its cont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ff0000"/>
                </a:solidFill>
                <a:latin typeface="Calibri"/>
              </a:rPr>
              <a:t>Second meaning (the subject of this lectur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SimSun"/>
              </a:rPr>
              <a:t>Encode program-processable data (a la name, age, cost, id etc) into html by a special </a:t>
            </a:r>
            <a:r>
              <a:rPr b="0" lang="et-EE" sz="2000" spc="-1" strike="noStrike">
                <a:solidFill>
                  <a:srgbClr val="ff0000"/>
                </a:solidFill>
                <a:latin typeface="Calibri"/>
                <a:ea typeface="SimSun"/>
              </a:rPr>
              <a:t>annotation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SimSun"/>
              </a:rPr>
              <a:t> mechanis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emantic html </a:t>
            </a:r>
            <a:r>
              <a:rPr b="0" lang="et-EE" sz="4400" spc="-1" strike="noStrike">
                <a:solidFill>
                  <a:srgbClr val="ff0000"/>
                </a:solidFill>
                <a:latin typeface="Calibri"/>
              </a:rPr>
              <a:t>anno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Calibri"/>
              </a:rPr>
              <a:t>Big question: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how to publish machine-processable data (as opposed to visual-oriented html) on the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Two main approach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Publish data in csv, xml, json, rdf or some such purely machine-oriented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Publish data inside human/visual-oriented 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Calibri"/>
              </a:rPr>
              <a:t>Semantic html annotations: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integrate machine-processable information into visual-design-oriented 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emantic html „standards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mportant format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ML5 </a:t>
            </a: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data attribu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RDFa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: W3C standard pushed by the semantic web commun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12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Facebook Open Graph protoc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12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Google Structured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12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Microdata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Microform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mportant ontologies/dictionari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schema.or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word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HTML5 data attribu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implest of all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Just add   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data-*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=“...“  attributes where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can be anything and ... can be anything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ik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&lt;div 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data-name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=“jaan“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data-age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=“20“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data-fun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=“not much“&gt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rdinary tex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&lt;/div&gt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an use in css selectors, javascript, external software etc exactly as you like: no real „pre-defined“ mean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HTML5 data attribu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set API exampl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Assuming element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&lt;div id="myDiv" data-name="myDiv" data-id="myId" data-my-custom-key="This is the value"&gt;&lt;/div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Get the el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var element = document.getElementById("myDiv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Get the 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var id = element.dataset.i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Retrieves "data-my-custom-key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var customKey = element.dataset.myCustomKe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Sets the value to something 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element.dataset.myCustomKey = "Some other value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Element becom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&lt;div id="myDiv" data-name="myDiv" data-id="myId" data-my-custom-key="Some other value"&gt;&lt;/div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W3C standard: RDF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a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://en.wikipedia.org/wiki/RDF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://www.w3.org/TR/xhtml-rdfa-primer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istor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008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RDFa 1.0 reached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3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ation stat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2012:   RDFa 1.1  does not require XML-specific namespace mechanis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828720" y="114480"/>
            <a:ext cx="7672320" cy="87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Näide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Algse html-tekst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&gt;Jaanus Kask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&gt;6024554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&gt;&lt;a href=”http://kask.googlepages.com”&gt;kliki siia&lt;/a&gt;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/t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asemel on html-tekstiks RDFa järgi annoteerit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r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about=”#jaanus_kask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property=”er:nimi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Jaanus Kask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property=”er:telefon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6024554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&gt;&lt;a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rel=”er:koduleht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href=”http://kask.googlepages.com”&gt;kliki siia&lt;/a&gt;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/t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/>
  <dcterms:modified xsi:type="dcterms:W3CDTF">2015-03-02T13:04:23Z</dcterms:modified>
  <cp:revision>138</cp:revision>
  <dc:subject/>
  <dc:title>RDF and schemaless databases: some notes</dc:title>
</cp:coreProperties>
</file>